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A44-579E-4E74-B062-8574CD1D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3E3-43FD-4EB2-B959-D80BA0BF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E23-22BD-4CFC-B4F2-12D148C6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2B9-480E-4202-BD16-5A84C7B1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57B-7C3B-4524-ADCE-E5E6D6D7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156-39F5-4B80-B93E-63ABDB4A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2DB-955F-425A-BC5A-BD2CFCEA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511-6103-425D-992E-DB96AFDF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4EF-CE9E-4C87-A617-96F6BF15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3D5-C622-4013-B33D-A2619149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5AC-EBA5-421A-AB5A-6C1E4E00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8C2-158A-49BF-83B1-74D6118F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52876-B682-4DD5-B540-3A4DC62C9467}" type="slidenum">
              <a:rPr b="0" lang="en-I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ithub.com/antirez/redis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edrik@gmail.co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hopsocially.com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hopsocially.com/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Redis And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32200" y="1697040"/>
            <a:ext cx="2379600" cy="2379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15040" y="1768320"/>
            <a:ext cx="1869840" cy="2379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02920" y="241740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yCon India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(Work in Progre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unil Ar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git clone </a:t>
            </a:r>
            <a:r>
              <a:rPr b="0" lang="en-IN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github.com/antirez/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cd 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./src/redis-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redis-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5680" y="18064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The most popular python cli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ndy McCurdy (</a:t>
            </a:r>
            <a:r>
              <a:rPr b="0" lang="en-IN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edrik@gmail.com</a:t>
            </a: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Github: http://github.com/andymccurdy/redis-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easy_install redis OR pip install 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Optional: easy_install hiredis or pip install hi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Lets get starte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5080" y="1866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cd 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$ ./src/redis-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from redis import 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 = Redis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keys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help(redis_cl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Redis 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Not binary sa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hould not contain space or newlin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 few rules about ke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Too long keys are not a good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Too short keys is also not a good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object-type:id:field” can be a nice idea, i.e. “user:1001:na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Operations on 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EX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ERS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ANDOM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E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T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XPI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Lets play with 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keys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exists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delete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type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ed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H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M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M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E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N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NCR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E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ECR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trings – with redis 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set('key', 'value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get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delete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Fetch multiple keys at o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mget/m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dis_client.mset({'key1': 'val1', 'key2': 'val2'}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dis_client.mget('key1', 'key2',...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Raising Hand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3640" y="1800360"/>
            <a:ext cx="9070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How many of you have used Redis befo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63640" y="2664000"/>
            <a:ext cx="9070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How many of you have got a laptop he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Ex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et a value with ex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setex('key', 'value', 2) #key to expire in 2 s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expire('key'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redis_client.get('key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To store transient states in your web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ho is on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280" y="301680"/>
            <a:ext cx="906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dis as LRU cache (http://antirez.com/post/redis-as-LRU-cache.ht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Atomic Inc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help(redis_client.inc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help(redis_client.dec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incr('counter',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incr('counte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 redis_client.incr('counte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&gt;&gt;&gt;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High Speed counters (views/clicks/votes/like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PI Rate Li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Generating unique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Ordered list of binarysaf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Doubly link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Memory footprint optimized for smaller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O(1) insertion/deletion at both 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Lists -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LP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P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L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L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L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BL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BR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BRPOPLP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LIN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POPLP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LPUSH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PUSH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8000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unil Arora / @_sunil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ork for ShopSocially (</a:t>
            </a:r>
            <a:r>
              <a:rPr b="0" lang="en-IN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hopsocially.com</a:t>
            </a: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Inter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Backend, Frontend, scaling, internet technologies in general, startups ... all kind of s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eb apps are full of lists :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Capp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Normal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al time message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cial Activity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9440" y="178416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n unordered collection of distinct byt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Nothing different from the data type in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ets -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D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DIFF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INTER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IS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3440" y="194148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RAND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UNION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icking random items from a set using SRAND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rimitive to construct filtering mechanism on items</a:t>
            </a: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hich of my friend's are online righ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orted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INCR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INTER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RANGEBY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Z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REMRANGEBY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REMRANGEBY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REV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REVRANGEBY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ZUNION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8000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unil Arora / @_sunil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ork for ShopSocially (</a:t>
            </a:r>
            <a:r>
              <a:rPr b="0" lang="en-IN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hopsocially.com</a:t>
            </a: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Inter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Backend, Frontend, scaling, internet technologies in general, startup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 key BY pattern (e.g. object-type:*: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 key LIMIT 0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 key GET user:*:user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ORT key BY pattern STORE dst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Generating sorted transient vi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Publish/Subscri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 simple and efficient implementation of publish/subscribe messaging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Client can subscribe/psubscribe to receive messages on channels (key patter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Publish/Subscri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SUB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UNSUB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UB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UNSUB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Many to Many message pa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676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eb 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03280" y="301680"/>
            <a:ext cx="906768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Today'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800000"/>
            <a:ext cx="907092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hat is Re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2519280"/>
            <a:ext cx="9070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How it works and what you can do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6360" y="3203640"/>
            <a:ext cx="9070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al life use-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36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What is Redi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Its between lot of stuff, so difficult to categorize it preci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What is Redi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IN" sz="2800" spc="-1" strike="noStrike">
                <a:solidFill>
                  <a:srgbClr val="000000"/>
                </a:solidFill>
                <a:latin typeface="Arial"/>
              </a:rPr>
              <a:t>I see Redis definitely more as a flexible tool that as a solution specialized to solve a specific problem: his mixed soul of cache, store, and messaging server shows this very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-Salvatore Sanfilip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29080" y="1871640"/>
            <a:ext cx="4570560" cy="4057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6877080"/>
            <a:ext cx="9899640" cy="539640"/>
          </a:xfrm>
          <a:prstGeom prst="roundRect">
            <a:avLst>
              <a:gd name="adj" fmla="val 29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Picture by herzog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http://www.flickr.com/photos/herzogbr/2274372747/sizes/z/in/photostrea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Brief History of Re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3780000"/>
            <a:ext cx="864072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76720" y="1639800"/>
            <a:ext cx="1347840" cy="1347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3280" y="2879640"/>
            <a:ext cx="906948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leased in March 2009 by Salvator Sanfilippo (@antire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Open source, BSD licen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VMWare sponsored its development in March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A few fundamen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Written in C (25K L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Uses memory as main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ingle Thre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Uses disk for 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Screamingly fas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50K read/write operations per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200K read/write ops per second on a regular EC2 in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4:46:48Z</dcterms:created>
  <dc:creator>Sunil Arora</dc:creator>
  <dc:description/>
  <dc:language>en-US</dc:language>
  <cp:lastModifiedBy>Sunil Arora</cp:lastModifiedBy>
  <dcterms:modified xsi:type="dcterms:W3CDTF">2011-09-05T11:15:37Z</dcterms:modified>
  <cp:revision>66</cp:revision>
  <dc:subject/>
  <dc:title/>
</cp:coreProperties>
</file>