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A27-E5C0-4575-B543-458EFC17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375-AD19-4E00-8C7E-A0005CC5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1FF-D87A-4EA9-95FF-04EAD48F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33F-9F03-40D4-AE9E-47C0EC2F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DD39-CB7E-42D6-B7D0-CCCC7F4D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0E63-7B7A-481F-A2E5-A3326F52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5EC6-875B-4336-BDF8-FD051808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6736-3458-4462-A29D-FCB0EB75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ABFB-1B7A-4110-B81D-33B00C33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EAA4-305B-4570-A708-A6CE7717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B2E2-21B0-4C62-AE6F-8D4581F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205-C74D-433A-BF41-E150951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00F0-82F0-470A-8225-1B5ABD9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A8A8-F80E-49DA-AFFF-741F41B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859C-2DF0-47F5-A639-2354FAE8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D524-7897-4913-977E-0DF5C98F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4245-57EE-40E3-AAFB-A97E958D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548-0903-4E39-9745-9BC8A0BC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665-2B51-4C72-BED4-CE03FCA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E51-A580-4021-8F48-5ACEFA45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ACF-4A5F-4CFF-B1FE-7CC8693F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7FD-6E01-4431-A052-2E60D0B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66D-F97C-4EC2-8B6D-9662648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109-E101-4A25-81B5-5918AC5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561-57B7-4C23-BBF5-BF6F3976B1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445-F62D-451C-B342-80B50D8AD9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.pycon.org/2010/talks/68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emantic Web Programming in Python an Introdu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iju 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ganath 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Query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742840" y="3428640"/>
            <a:ext cx="2057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ed Forward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rring Tri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co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in of R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D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standard way of expressing graphs of data and sharing them with other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DF Data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73119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ial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-Trip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DFLib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09680" y="2895120"/>
            <a:ext cx="6321600" cy="30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RQ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DF Term Synta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 for Triple Patt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RQL Queries in RDFLi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A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Network Graph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oud of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ing Link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W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520" y="327672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antic Data Publis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form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s and Spreadshe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ation 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man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ningful data Re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iple St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rying &amp; Searching semantic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D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RQ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AF (Friend of a Frien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W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an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mant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tudy of mea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quence of words or symbols used to convey enough mea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ditional Data-Modeling method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ulat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-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bulated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tors Near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3124080"/>
          <a:ext cx="3657600" cy="20448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r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yz 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ll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c R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tional Data-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7400" y="2362320"/>
          <a:ext cx="4267080" cy="136656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dres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or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yz 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ll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c R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057400" y="4038480"/>
          <a:ext cx="3733920" cy="2187720"/>
        </p:xfrm>
        <a:graphic>
          <a:graphicData uri="http://schemas.openxmlformats.org/drawingml/2006/table">
            <a:tbl>
              <a:tblPr/>
              <a:tblGrid>
                <a:gridCol w="1476360"/>
                <a:gridCol w="2257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ailable timing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 AM – 1P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 PM – 10 P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PM – 10 P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ningful data Re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ple : Three column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riple is composed of a subject, predicate and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ples could be represented easily in the form of grap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bu bought do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l co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jec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n entity which could be pers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lace or other concrete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dicate: Property of the ent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could be Subject to other triples 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literal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658" r="2431" b="0"/>
          <a:stretch/>
        </p:blipFill>
        <p:spPr>
          <a:xfrm>
            <a:off x="3581280" y="2971800"/>
            <a:ext cx="243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rging Tr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the Triples are represented in the form of graphs the merging could be done with less eff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41:33Z</dcterms:created>
  <dc:creator>Biju</dc:creator>
  <dc:description/>
  <dc:language>en-US</dc:language>
  <cp:lastModifiedBy>Biju</cp:lastModifiedBy>
  <dcterms:modified xsi:type="dcterms:W3CDTF">2010-09-19T14:04:29Z</dcterms:modified>
  <cp:revision>11</cp:revision>
  <dc:subject/>
  <dc:title>Sem</dc:title>
</cp:coreProperties>
</file>