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DD4-F408-4FCA-A3D3-6233EB64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65E-D534-4A1E-9C5C-B530A55D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31B-5FB1-4443-89D0-912AEA79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F9C-CC68-48B7-A2C7-1971C9EA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151-11C5-42F1-99E4-74A1CBDF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250-A57F-4523-8408-D4CDEE6E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EE9F-0C53-4836-A57B-4FC8C9BF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ABFD-FAA3-4593-AD12-1B049759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B4B6-D99F-44C8-8679-FF9BD65F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0EA3-EE00-4DFE-AED3-12A98D74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74F4-1E1C-4436-8BBE-B8F69C3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28F-681F-4B34-BC61-5DFB3FB7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FB2F-A505-47CB-A6F0-59D22BD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268-D7D7-4B52-9AF5-036F5177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DEDC-5665-41C2-99C4-2D48574F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5748-6190-4FDE-82E2-F33E6BA1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0B02-DA11-4625-B5A1-C7DC5EF8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2A0-712A-486F-9822-FBF6C53F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779-D799-43DD-8C70-0C391622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6CC-760C-4373-90B2-B451816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F2A-5863-4A15-85DF-6CD1E71F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683-0939-4D47-8097-F2A307D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1A3-2D07-430B-B27B-C0D42A3B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45A-86F0-4AAA-9431-780A2E3E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F56D-B92B-4BA8-A770-B62D7F3A13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98FF-BB76-42D5-9B94-AF07B4010F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.pycon.org/2010/talks/68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emantic Web Programming in Python an Introdu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iju 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ganath 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Query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742840" y="3428640"/>
            <a:ext cx="2057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ed Forward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rring Tri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co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in of R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D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standard way of expressing graphs of data and sharing them with other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DF Data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73119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ial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-Trip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DFLib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09680" y="2895120"/>
            <a:ext cx="6321600" cy="30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RQ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DF Term Synta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 for Triple Patt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RQL Queries in RDFLi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A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Network Graph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oud of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ing Link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W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520" y="327672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antic Data Publis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form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s and Spreadshe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ation 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man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ningful data Re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iple St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rying &amp; Searching semantic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D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RQ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AF (Friend of a Frien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W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an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mant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tudy of mea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quence of words or symbols used to convey enough mea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ditional Data-Modeling method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ulat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-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bulated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tors Near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3124080"/>
          <a:ext cx="3657600" cy="20448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r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yz 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ll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c R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tional Data-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7400" y="2362320"/>
          <a:ext cx="4267080" cy="136656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r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yz 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ll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c R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057400" y="4038480"/>
          <a:ext cx="3733920" cy="2187720"/>
        </p:xfrm>
        <a:graphic>
          <a:graphicData uri="http://schemas.openxmlformats.org/drawingml/2006/table">
            <a:tbl>
              <a:tblPr/>
              <a:tblGrid>
                <a:gridCol w="1476360"/>
                <a:gridCol w="2257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ailable timing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 AM – 1P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 PM – 10 P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PM – 10 P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ningful data Re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ple : Three column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riple is composed of a subject, predicate and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ples could be represented easily in the form of grap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bu bought do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l co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jec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n entity which could be pers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lace or other concrete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dicate: Property of the ent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could be Subject to other triples 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literal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658" r="2431" b="0"/>
          <a:stretch/>
        </p:blipFill>
        <p:spPr>
          <a:xfrm>
            <a:off x="3581280" y="2971800"/>
            <a:ext cx="243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rging Tr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the Triples are represented in the form of graphs the merging could be done with less eff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41:33Z</dcterms:created>
  <dc:creator>Biju</dc:creator>
  <dc:description/>
  <dc:language>en-US</dc:language>
  <cp:lastModifiedBy>Biju</cp:lastModifiedBy>
  <dcterms:modified xsi:type="dcterms:W3CDTF">2010-09-19T14:04:29Z</dcterms:modified>
  <cp:revision>11</cp:revision>
  <dc:subject/>
  <dc:title>Sem</dc:title>
</cp:coreProperties>
</file>