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BFE-532B-4D33-90F1-0ACDC13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9EB-8468-441B-A817-04263291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879-C53B-4019-8447-42030FCF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998-9F48-49BD-98F0-EF342628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58B-780C-4AFC-9732-6F32432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C58-C9ED-4859-9C16-FC3AD75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EBB-BF31-4FBC-B06A-928C00E3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412-A636-4F0D-B316-F209539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921-D308-428D-B420-77B0CA0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772-5140-4A8F-B357-407618E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C0-31FF-4B8F-B533-2C0C496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276-36F6-41B1-839A-0086D25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DA0-A796-4250-A12F-498037948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ployment to large server farms using Fabric and BitTorr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noj S Mahaling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yam Sundar 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 the tldeploy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rom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abric.contrib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impo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Fabric tasks for creating to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create’:[‘localhost’]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@roles(‘create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_torrent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deploy.cre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sample.torrent”,”sample.tar.gz”,”tracker.torrent.com:54321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s to start and stop the torrent tra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tracker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tracker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_tracker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tracker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_tracker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op_tracker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s to start and stop the s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seeder01’,’seeder02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seeding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_seeding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hosts(‘seeder01’,’seeder02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_seeding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op_seeding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the tracker and seeding and then start client at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peers’:[‘node01’, ‘node02’, ‘node03’]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@roles(‘peers’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_deploy(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.start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use of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env.roledef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{‘peers’:[‘node01’, ‘node02’, ‘node03’]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s’:[‘seeder01’]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er’:[‘tracker’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eploy can automatically look for these roles and run the appropriate jobs on the h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bbb59"/>
                </a:solidFill>
                <a:latin typeface="Calibri"/>
              </a:rPr>
              <a:t>Fabric extension - tdeploy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roles are defined, and tasks decorated with the correct roles call each job for the entire work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a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make_torrent  start_tracker start_seeding start_deplo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360" y="3808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alibri"/>
              </a:rPr>
              <a:t>Demo and a look at the sour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360" y="3808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alibri"/>
              </a:rPr>
              <a:t>Q &amp; 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</a:rPr>
              <a:t>Let’s begin with defining each of the keywords in our talk’s titl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SCF6487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79646"/>
                </a:solidFill>
                <a:latin typeface="Calibri"/>
              </a:rPr>
              <a:t>Deploym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server_far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Server F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ittorrent-swarm.png"/>
          <p:cNvPicPr/>
          <p:nvPr/>
        </p:nvPicPr>
        <p:blipFill>
          <a:blip r:embed="rId1"/>
          <a:stretch/>
        </p:blipFill>
        <p:spPr>
          <a:xfrm>
            <a:off x="0" y="609480"/>
            <a:ext cx="9121680" cy="541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0253f"/>
                </a:solidFill>
                <a:latin typeface="Calibri"/>
              </a:rPr>
              <a:t>BitTor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shmere_Fabr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.and Fabr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1066680"/>
            <a:ext cx="10953720" cy="9334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bbb59"/>
                </a:solidFill>
                <a:latin typeface="Calibri"/>
              </a:rPr>
              <a:t>Fabric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Why So Serial?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70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Calibri"/>
              </a:rPr>
              <a:t>BitTornad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9:11:42Z</dcterms:created>
  <dc:creator>Admin</dc:creator>
  <dc:description/>
  <dc:language>en-US</dc:language>
  <cp:lastModifiedBy>Admin</cp:lastModifiedBy>
  <dcterms:modified xsi:type="dcterms:W3CDTF">2010-09-19T10:50:22Z</dcterms:modified>
  <cp:revision>28</cp:revision>
  <dc:subject/>
  <dc:title>Deployment to large server farms using Fabric and BitTorrent.</dc:title>
</cp:coreProperties>
</file>