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042-1CC8-4BBF-B80C-1E713A75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A7A-9EA6-48A5-838D-690D85BB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FE5-B0C4-460D-B10D-7F815FA2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230-6D42-450E-91D0-2CDB411C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CC8-45F8-4EC2-87B3-D6A48DD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F12-654D-4DED-8BA1-484A961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EAA-398E-4C70-AF29-EDD6A93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8BE-2B03-40FC-8ADF-B528003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F0-A268-4230-A786-42A6E6A7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D85-157E-41E2-A7F4-9947E86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AD5-103F-40C2-8239-512F328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8A1-38C4-4B12-8488-DD1A90F0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07A2-612E-4DF5-B0AE-9444F6896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loyment to large server farms using Fabric and BitTorr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noj S Mahaling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yam Sundar 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 the tldeploy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rom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abric.contrib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impo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Fabric tasks for creating to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create’:[‘localhost’]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@roles(‘create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_torrent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deploy.cre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sample.torrent”,”sample.tar.gz”,”tracker.torrent.com:54321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s to start and stop the torrent tra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tracker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tracker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_tracker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tracker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_tracker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op_tracker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s to start and stop the s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seeder01’,’seeder02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seeding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_seeding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seeder01’,’seeder02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_seeding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op_seeding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the tracker and seeding and then start client at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peers’:[‘node01’, ‘node02’, ‘node03’]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roles(‘peers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deploy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use of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peers’:[‘node01’, ‘node02’, ‘node03’]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s’:[‘seeder01’]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er’:[‘tracker’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 can automatically look for these roles and run the appropriate jobs on the h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roles are defined, and tasks decorated with the correct roles call each job for the entire work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a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make_torrent  start_tracker start_seeding start_depl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360" y="3808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alibri"/>
              </a:rPr>
              <a:t>Demo and a look at the sour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360" y="3808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alibri"/>
              </a:rPr>
              <a:t>Q &amp; 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</a:rPr>
              <a:t>Let’s begin with defining each of the keywords in our talk’s titl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SCF6487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79646"/>
                </a:solidFill>
                <a:latin typeface="Calibri"/>
              </a:rPr>
              <a:t>Deploym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erver_far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Server F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ittorrent-swarm.png"/>
          <p:cNvPicPr/>
          <p:nvPr/>
        </p:nvPicPr>
        <p:blipFill>
          <a:blip r:embed="rId1"/>
          <a:stretch/>
        </p:blipFill>
        <p:spPr>
          <a:xfrm>
            <a:off x="0" y="609480"/>
            <a:ext cx="9121680" cy="541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0253f"/>
                </a:solidFill>
                <a:latin typeface="Calibri"/>
              </a:rPr>
              <a:t>BitTor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shmere_Fabr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.and Fabr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1066680"/>
            <a:ext cx="10953720" cy="9334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bbb59"/>
                </a:solidFill>
                <a:latin typeface="Calibri"/>
              </a:rPr>
              <a:t>Fabric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Why So Serial?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70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Calibri"/>
              </a:rPr>
              <a:t>BitTornad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9:11:42Z</dcterms:created>
  <dc:creator>Admin</dc:creator>
  <dc:description/>
  <dc:language>en-US</dc:language>
  <cp:lastModifiedBy>Admin</cp:lastModifiedBy>
  <dcterms:modified xsi:type="dcterms:W3CDTF">2010-09-19T10:50:22Z</dcterms:modified>
  <cp:revision>28</cp:revision>
  <dc:subject/>
  <dc:title>Deployment to large server farms using Fabric and BitTorrent.</dc:title>
</cp:coreProperties>
</file>