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28240" y="241200"/>
            <a:ext cx="10032840" cy="115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28240" y="241200"/>
            <a:ext cx="10032840" cy="115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228240" y="241200"/>
            <a:ext cx="10032840" cy="115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228240" y="241200"/>
            <a:ext cx="10032840" cy="115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228240" y="241200"/>
            <a:ext cx="10032840" cy="115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28240" y="241200"/>
            <a:ext cx="10032840" cy="115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28240" y="241200"/>
            <a:ext cx="10032840" cy="115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28240" y="241200"/>
            <a:ext cx="10032840" cy="115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28240" y="241200"/>
            <a:ext cx="10032840" cy="115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240" y="241200"/>
            <a:ext cx="10032840" cy="115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228240" y="241200"/>
            <a:ext cx="10032840" cy="115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228240" y="241200"/>
            <a:ext cx="10032840" cy="115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28240" y="241200"/>
            <a:ext cx="10032840" cy="115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t">
            <a:normAutofit fontScale="1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1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2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3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4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5" algn="ctr">
              <a:buClr>
                <a:srgbClr val="727272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6" algn="ctr">
              <a:buClr>
                <a:srgbClr val="727272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635040" y="4838760"/>
            <a:ext cx="586728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635040" y="1980720"/>
            <a:ext cx="5867280" cy="273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75c223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75c223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076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17972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58904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199800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40660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8" name=""/>
          <p:cNvSpPr/>
          <p:nvPr/>
        </p:nvSpPr>
        <p:spPr>
          <a:xfrm>
            <a:off x="11861640" y="216000"/>
            <a:ext cx="1041480" cy="9321840"/>
          </a:xfrm>
          <a:prstGeom prst="rect">
            <a:avLst/>
          </a:prstGeom>
          <a:solidFill>
            <a:srgbClr val="ed7c26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7772040" y="2286000"/>
            <a:ext cx="39625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522720" indent="-3463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816120" indent="-3463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109520" indent="-34668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402920" indent="-34668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695960" indent="-3463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695960" indent="-34632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695960" indent="-34632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2286000"/>
            <a:ext cx="50418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8608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91476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24380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57284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90152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0261440" y="241200"/>
            <a:ext cx="2514600" cy="9283680"/>
            <a:chOff x="10261440" y="241200"/>
            <a:chExt cx="2514600" cy="9283680"/>
          </a:xfrm>
        </p:grpSpPr>
        <p:sp>
          <p:nvSpPr>
            <p:cNvPr id="77" name=""/>
            <p:cNvSpPr/>
            <p:nvPr/>
          </p:nvSpPr>
          <p:spPr>
            <a:xfrm>
              <a:off x="10261440" y="2730240"/>
              <a:ext cx="2514600" cy="6794640"/>
            </a:xfrm>
            <a:prstGeom prst="rect">
              <a:avLst/>
            </a:prstGeom>
            <a:solidFill>
              <a:srgbClr val="edb60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ff"/>
                  </a:solidFill>
                  <a:latin typeface="Futura"/>
                  <a:ea typeface="Futura"/>
                </a:rPr>
                <a:t> </a:t>
              </a:r>
              <a:endParaRPr b="0" lang="en-US" sz="4300" spc="-1" strike="noStrike">
                <a:solidFill>
                  <a:srgbClr val="727272"/>
                </a:solidFill>
                <a:latin typeface="Futur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261440" y="241200"/>
              <a:ext cx="2514600" cy="2502000"/>
            </a:xfrm>
            <a:prstGeom prst="rect">
              <a:avLst/>
            </a:prstGeom>
            <a:solidFill>
              <a:srgbClr val="48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727272"/>
                </a:solidFill>
                <a:latin typeface="Futura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253160" indent="-53676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671120" indent="-5371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2089080" indent="-5371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506680" indent="-53676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506680" indent="-536760">
              <a:spcBef>
                <a:spcPts val="1049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506680" indent="-536760">
              <a:spcBef>
                <a:spcPts val="1049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28268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727280" indent="-57168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2171880" indent="-57168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61612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616120" indent="-571320">
              <a:spcBef>
                <a:spcPts val="24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616120" indent="-571320">
              <a:spcBef>
                <a:spcPts val="24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solidFill>
            <a:srgbClr val="db3d8a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>
              <a:spcBef>
                <a:spcPts val="9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>
              <a:spcBef>
                <a:spcPts val="9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076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17972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58904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199800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40660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1269720" y="2286000"/>
            <a:ext cx="50418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8608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91476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24380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57284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90152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9200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123660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681200" indent="-5256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2125800" indent="-5256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257004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2570040" indent="-5252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2570040" indent="-5252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"/>
              </a:rPr>
              <a:t>2to3</a:t>
            </a: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"/>
              </a:rPr>
              <a:t>porting summarized -  issues, workflows and solutions</a:t>
            </a:r>
            <a:endParaRPr b="0" lang="en-US" sz="4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968480" y="851040"/>
            <a:ext cx="2679840" cy="200952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8432640" y="368280"/>
            <a:ext cx="3594240" cy="26956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5194440" y="1219320"/>
            <a:ext cx="2946240" cy="1269720"/>
          </a:xfrm>
          <a:prstGeom prst="rightArrow">
            <a:avLst>
              <a:gd name="adj1" fmla="val 50000"/>
              <a:gd name="adj2" fmla="val 57010"/>
            </a:avLst>
          </a:prstGeom>
          <a:solidFill>
            <a:srgbClr val="418dd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Futura"/>
              </a:rPr>
              <a:t>single vs. multiple codebases</a:t>
            </a:r>
            <a:endParaRPr b="0" lang="en-US" sz="7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expecting rapid development soon?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use a single branch for now, use another branch when you feel you have enough time to apply patches to 2 branches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porting configobj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onvert the repo over to mercuria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run tests which fai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make tests work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rcRect l="21621" t="0" r="21678" b="0"/>
          <a:stretch/>
        </p:blipFill>
        <p:spPr>
          <a:xfrm>
            <a:off x="698400" y="2502000"/>
            <a:ext cx="5562720" cy="735948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helping the community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225920" y="2501640"/>
            <a:ext cx="5041800" cy="6654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43120" indent="-525600">
              <a:lnSpc>
                <a:spcPct val="100000"/>
              </a:lnSpc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tdlib/3rd party library?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marL="843120" indent="-525600">
              <a:lnSpc>
                <a:spcPct val="100000"/>
              </a:lnSpc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web-frameworks?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marL="843120" indent="-525600">
              <a:lnSpc>
                <a:spcPct val="100000"/>
              </a:lnSpc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python-porting M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marL="843120" indent="-525600">
              <a:lnSpc>
                <a:spcPct val="100000"/>
              </a:lnSpc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PSF sponsored sprints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solidFill>
            <a:srgbClr val="db3d8a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Unicode and Py3k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solidFill>
            <a:srgbClr val="db3d8a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long -&gt; integer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rcRect l="0" t="4892" r="0" b="4976"/>
          <a:stretch/>
        </p:blipFill>
        <p:spPr>
          <a:xfrm>
            <a:off x="228600" y="2743200"/>
            <a:ext cx="10032840" cy="67816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ff"/>
                </a:solidFill>
                <a:latin typeface="Futura"/>
              </a:rPr>
              <a:t>doubts, anyone?</a:t>
            </a: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rcRect l="869" t="0" r="917" b="0"/>
          <a:stretch/>
        </p:blipFill>
        <p:spPr>
          <a:xfrm>
            <a:off x="228600" y="2743200"/>
            <a:ext cx="10032840" cy="67816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Futura"/>
              </a:rPr>
              <a:t>well, c u around then!</a:t>
            </a:r>
            <a:endParaRPr b="0" lang="en-US" sz="76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rcRect l="11169" t="0" r="11175" b="0"/>
          <a:stretch/>
        </p:blipFill>
        <p:spPr>
          <a:xfrm>
            <a:off x="7213680" y="2158920"/>
            <a:ext cx="5562360" cy="735984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today we`ll be talking about ...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0418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43120" indent="-525600">
              <a:lnSpc>
                <a:spcPct val="100000"/>
              </a:lnSpc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how different is py3k?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marL="843120" indent="-525600">
              <a:lnSpc>
                <a:spcPct val="100000"/>
              </a:lnSpc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d2, configobj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marL="843120" indent="-525600">
              <a:lnSpc>
                <a:spcPct val="100000"/>
              </a:lnSpc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workflow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marL="843120" indent="-525600">
              <a:lnSpc>
                <a:spcPct val="100000"/>
              </a:lnSpc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how to contribute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marL="843120" indent="-525600">
              <a:lnSpc>
                <a:spcPct val="100000"/>
              </a:lnSpc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under-the-hood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rcRect l="1085" t="3582" r="737" b="3489"/>
          <a:stretch/>
        </p:blipFill>
        <p:spPr>
          <a:xfrm rot="21484800">
            <a:off x="1119240" y="939600"/>
            <a:ext cx="5435640" cy="401292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31280" y="6172200"/>
            <a:ext cx="11176200" cy="256536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ffffff"/>
                </a:solidFill>
                <a:latin typeface="Futura"/>
              </a:rPr>
              <a:t>how different are they???</a:t>
            </a:r>
            <a:endParaRPr b="0" lang="en-US" sz="73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7518240" y="2685960"/>
            <a:ext cx="5067360" cy="36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Futura"/>
              </a:rPr>
              <a:t>LOTS OF SMALL DIFFERENCES!!!</a:t>
            </a:r>
            <a:endParaRPr b="0" lang="en-US" sz="63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Palatino"/>
              </a:rPr>
              <a:t>http://docs.python.org/release/3.0.1/whatsnew/3.0.htm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and a few major ones ...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All strings are UNICODE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(integers, long) -&gt; integers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rcRect l="0" t="945" r="0" b="614"/>
          <a:stretch/>
        </p:blipFill>
        <p:spPr>
          <a:xfrm rot="21484800">
            <a:off x="1160280" y="2212560"/>
            <a:ext cx="9786600" cy="7226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43000" y="507960"/>
            <a:ext cx="11175840" cy="130824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ff"/>
                </a:solidFill>
                <a:latin typeface="Futura"/>
              </a:rPr>
              <a:t>2to3 - the tool</a:t>
            </a: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d2 porting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more than 60 files -&gt; maybe around 7200 lines approx.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d2 has the same codebase for 2.x and 3.x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run 2to3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make sure the tests work. fix stuff if they don`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Futura"/>
              </a:rPr>
              <a:t>single vs. multiple codebases</a:t>
            </a:r>
            <a:endParaRPr b="0" lang="en-US" sz="7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ngle codebase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apply bug-fixes once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odebase becomes messier as you try to increase compatibility with different version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3334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3334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3334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3334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Futura"/>
              </a:rPr>
              <a:t>single vs. multiple codebases</a:t>
            </a:r>
            <a:endParaRPr b="0" lang="en-US" sz="7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multiple codebase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neater codebase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apply your bug-fixes on two branches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you probably have to do this if you intend to re-design your APIs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