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BE7-7979-400B-9C19-C1676E92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4B7-7C24-4DF6-8E9F-50CD03A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EE5-96A5-41CE-822C-168075E6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4C7-AB00-4211-832A-BD3D19B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FA067-4E38-4990-8D91-12F1AA46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B9BB7-3BC9-40C5-B22C-7F18883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D2D90-D39E-4D10-8B83-67D2998C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29EEC-C4C6-400E-A5D7-15CF446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BB35F-0CE2-43B0-8ADF-8AD96850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9423C-FF7A-4362-A496-27168B9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8D9BA-CDB1-47E5-AA3B-F01A76A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6E8-BAA9-44E0-8D61-4436C86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EA3A-92DA-46EA-80E4-CA8CEBD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64244-7F2B-4BF9-BCC8-6DBE7B40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7B757-D251-4323-859A-DB776213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0F4D3-A839-43D1-A6EE-2129133A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0AF16-0294-4297-98A1-E0469BC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A8E3-9B67-44F2-9F0D-DAC0D4DE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E707-921B-474C-AC7C-05104E61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8E5C-5164-492D-8168-7D09762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32DC-EC37-4A28-9A87-56B7830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2AB6-446B-4F21-9CFC-36BF4FF8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2F1-8278-467B-8C27-4DF8BE73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739A-84DD-4D1E-86EE-4BE1339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65AA-71AB-49AB-9B35-627AF61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6296-46CA-4416-B2E8-ED5E254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E9C4-EB74-4B40-A6FC-4C1EDED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2C64-8FB6-4ADB-9621-71B92BA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83B9-D511-4E73-8D60-38BBB699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56A5-4352-4BBA-AE0C-4A111DEA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26523-55F2-40BD-89EE-CB58A743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29AA5-F523-4A91-B92F-F4F8EDB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F5CD5-D9E9-4353-A8FB-5BFAA6E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5B5-912F-490E-8E7E-CAFCF9A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0E64C-1CAC-4094-8304-2419078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7ED9C-1272-40D3-B4BD-CC03033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0D9D7-4C71-42A7-848D-B358D82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629B7-5049-4774-9D22-23885F8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CB5C8-9F45-4D8A-8F40-4AC6AAA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67BBD-19E4-433B-8BE1-B035141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0D1B46-A09B-4699-8C1A-DAE5294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6E495-B6B0-4A0B-A84A-8E3C9376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5679A-F377-4FBB-9369-23BBD579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FEC-8CF4-414D-9FEC-1B4EADA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E7B-8AC0-49C9-A772-17DB149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963-D6BD-4651-B015-60CF20E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D6A-C9D6-4EE2-B957-9049ABF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AD6-BFA9-47B8-BEB7-12D17B4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EE75-7000-44E2-8A68-2AC0C34A794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8181-BC07-4070-81DF-38096B48F57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8F12-7371-4267-B2D5-1780D8C8A08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022F-E713-4720-AAC1-FAFFE22B5BB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486400" y="388584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-Gayatr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-Madhubal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3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ass TestFromRoman(unittest.TestCase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setup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rdown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t_knownValues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"""fromRoman should give known result with known input"""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nteger, numeralin knownValues: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sult = roman.fromRoman(numeral)    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elf.assertEqual(integer, result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tTooManyRepeatedNumerals(self):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"""fromRoman should fail with too many repeated numerals"""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s in ('MMMM', 'DD', 'CCCC', 'LL', 'XXXX', 'VV', 'IIII'):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elf.assertRaises(roman.InvalidRomanNumeralError, roman.fromRoman, s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to and from Roman numerals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#Define exception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RomanError(Exception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OutOfRange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NotInteger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InvalidRomanNumeral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#Define digit mapp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omanNumeralMap = (('M',  1000),  ('CM', 900),  ('D',  500),('CD', 400), ('C',  100), ('XC', 90), ('L',  50),('XL', 40), ('X',  10), ('IX', 9), ('V',  5), ('IV', 4), ('I',  1)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def toRoman(n)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integer to Roman numeral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if not (0 &lt; n &lt; 4000):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aise OutOfRangeError, "number out of range (must be 1..3999)"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if int(n) &lt;&gt; n: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aise NotIntegerError, "non-integers can not be converted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sult = ""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for numeral, integer in romanNumeralMap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while n &gt;= integer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sult += numeral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n -= integer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turn result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 = 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ex = 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umeral, integer in romanNumeralMap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le s[index:index+len(numeral)] == numeral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 += integ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ex += len(numeral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resul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ose.tools module provides a number of testing aids that you may find useful, including decorators for restricting test execution time and testing for exceptions, and all of the same assertX methods found i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unittest.TestCase (only spelled in pep08 fashion, so assert_equal rather than assertEqual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aises(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*exceptions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Test must raise one of expected exceptions to pass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Example use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@raises(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TypeError, ValueError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 test_raises_type_error():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aise TypeError("This test passes"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assert_equal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Fail if the two objects are unequal as determined by the ‘==’ operator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assert_false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Fail the test if the expression is true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5" descr=""/>
          <p:cNvPicPr/>
          <p:nvPr/>
        </p:nvPicPr>
        <p:blipFill>
          <a:blip r:embed="rId1"/>
          <a:stretch/>
        </p:blipFill>
        <p:spPr>
          <a:xfrm>
            <a:off x="1901880" y="2657520"/>
            <a:ext cx="5499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 box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ad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ox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ss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t test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mance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mental integration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abil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gration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all/uninstall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al test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Subtitle 4"/>
          <p:cNvSpPr/>
          <p:nvPr/>
        </p:nvSpPr>
        <p:spPr>
          <a:xfrm>
            <a:off x="487692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ver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ur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-to-end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tibil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nity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ress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pha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ance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a testing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traight Connector 6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66680" y="1676160"/>
            <a:ext cx="3276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Unit Testing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Unittest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Unittest2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se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ock Testing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ock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yMock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vnMock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...</a:t>
            </a:r>
            <a:endParaRPr b="0" lang="en-US" sz="1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uzz Testing Tools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ester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eachFuzzer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...</a:t>
            </a:r>
            <a:endParaRPr b="0" lang="en-US" sz="1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deCoverage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overage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7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8" name="Subtitle 4"/>
          <p:cNvSpPr/>
          <p:nvPr/>
        </p:nvSpPr>
        <p:spPr>
          <a:xfrm>
            <a:off x="4800600" y="1676520"/>
            <a:ext cx="3505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ui Test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Pywinauto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Gui a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eb Test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windmi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Selen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tegration Testing Too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Build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bitten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urce codecheck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pyl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5"/>
          <p:cNvSpPr/>
          <p:nvPr/>
        </p:nvSpPr>
        <p:spPr>
          <a:xfrm>
            <a:off x="380880" y="144792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un completely by itself, without any human input. Unit testing is about automation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.determine by itself whether the function it is testing has passed or failed, without a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uman interpreting the results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.run in isolation, separate from any other test cases (even if they test the same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unctions). Each test case is an is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oal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solate each part of the program and show that the individual parts are correc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nifi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A unit test provides a strict, written contract that the piece of code must satisfy. As a result, it affords several benefits. Unit tests find problems early in the development cycl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mitations-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-Testing cannot be expected to catch every error in the program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5"/>
          <p:cNvSpPr/>
          <p:nvPr/>
        </p:nvSpPr>
        <p:spPr>
          <a:xfrm>
            <a:off x="45720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154240" y="1658880"/>
            <a:ext cx="4835520" cy="4302360"/>
          </a:xfrm>
          <a:prstGeom prst="rect">
            <a:avLst/>
          </a:prstGeom>
          <a:ln w="0">
            <a:noFill/>
          </a:ln>
        </p:spPr>
      </p:pic>
      <p:sp>
        <p:nvSpPr>
          <p:cNvPr id="185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DD can lead to more modularized, flexible, and extensible co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n cod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s to better desig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ter code documen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productiv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desig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92736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6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quir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man should return the Roman numeral representation for all integers 1 to 3999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Roman should take a valid Roman numeral and return the number that it represent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man should always return a Roman numeral using uppercase letter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Roman should only accept uppercase Roman numerals 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.e. it should fail when given lowercase input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1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#roman.py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to and from Roman numerals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#Define exception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RomanError(Exception): pass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OutOfRangeError(RomanError): pass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NotIntegerError(RomanError): pas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InvalidRomanNumeralError(RomanError): pass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def toRoman(n)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integer to Roman numeral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pass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3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37680" cy="1006200"/>
          </a:xfrm>
          <a:prstGeom prst="rect">
            <a:avLst/>
          </a:prstGeom>
          <a:ln w="0">
            <a:noFill/>
          </a:ln>
        </p:spPr>
      </p:pic>
      <p:sp>
        <p:nvSpPr>
          <p:cNvPr id="194" name="Straight Connector 5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Unittest: testRoman.py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Unit test for roman.py"""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port roman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port unittest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knownValues = ( (1, 'I'),.,.,.,..,(3999, 'MMMCMXCIX'))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lass TestToRoman(unittest.TestCase)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f testToRomanGood(self):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toRoman should give known result with known input"""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or integer, numeral in knownValues: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ult = roman.toRoman(integer)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elf.assertEqual(numeral, result)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f testNonInteger(self):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toRoman should fail with non-integer input"""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elf.assertRaises(roman.NotIntegerError, roman.toRoman, 0.5)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5"/>
          <p:cNvSpPr/>
          <p:nvPr/>
        </p:nvSpPr>
        <p:spPr>
          <a:xfrm>
            <a:off x="380880" y="144792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9:38:18Z</dcterms:created>
  <dc:creator>1082769</dc:creator>
  <dc:description/>
  <dc:language>en-US</dc:language>
  <cp:lastModifiedBy>1082769</cp:lastModifiedBy>
  <dcterms:modified xsi:type="dcterms:W3CDTF">2010-09-10T10:41:34Z</dcterms:modified>
  <cp:revision>40</cp:revision>
  <dc:subject/>
  <dc:title>Test Driven Development</dc:title>
</cp:coreProperties>
</file>