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991-2C65-4C68-8B92-50173602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30F-F9EE-48E3-824B-D3BBC4F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E07-3EF4-4CAB-8BA1-9341FA22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51D-1869-4BC5-941E-127CBE0A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2A00-3EEA-499D-9A48-59568BC6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99FB-248E-4A26-BEBB-E28181C8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BB930-E9CE-4762-A133-6F1A32C3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1104E-FD65-4E60-94E1-9DEAA9EC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5089-0B09-4D45-B37E-EDC96B1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481F8-C96C-4AED-8084-97FFA04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C7D40-F592-4CBF-B428-FD1BC35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382-4D17-4543-84F5-3FEC435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0A4C-184F-4208-8D43-75193507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EB81-F3E5-4BD4-88F4-879B378D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23F86-04D6-4E89-A03D-586ACBC3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6885-4237-46BB-B19C-B2A76B67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4136A-86C2-4464-B917-FE3A1A1B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32B9-B1C2-479C-85A2-67067F75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3BA3-68DB-4CFF-88CE-A27B74DD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593B-EC8E-4409-A156-EBD7814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1DC8-E47F-4893-97D2-066424FF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C2D0-0575-4603-A3B9-D271F44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97E-8F69-4BEF-BEFB-535C94A2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F262-FAA3-4CEB-91A3-A61F7B67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13AF-5A83-4AFE-8846-3ACD62E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7359-AB79-4E3D-B174-2B1F3447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494A-5EE0-4FAE-83A4-A7C4CED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F56B-E80F-4FC1-B576-3338184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4CBA-82EF-4961-BD13-BE8CCCB7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1DB8-2AE8-495E-A4F3-18B950B9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77A91-B8E6-42AE-B2AF-347E09FC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37FB56-C7F0-4A33-9493-23169FF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38C97-FE65-4F19-9A66-646F0280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C49-F9BA-4570-8A99-D74E8DD2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86BF5-CB0C-4072-B42B-4470CC0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14598-697B-4FD9-94BC-279AB3F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7E7901-52A1-42E8-9303-CCCC083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5857B-A48F-44DE-A505-7D5CC0D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45A82-CA3C-4A35-AC54-079F3B5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B07A8-A592-4AC6-AB11-5E0B0D11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B7ACC-7CD6-4736-8C53-5E79C55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4C8AE-FF66-4616-8629-94A06E94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44F3F-E1D0-4F6C-B21F-5AF76FEC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A60-6039-4298-94A6-17D634B9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6F4-5138-4004-96DD-577B01F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CE2-FDCB-4663-AED6-2D7EA5C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58C-43A8-49B0-8EAA-3C1B16C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B56-9BFA-4995-BAF3-C3DCC54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499-A112-4BE3-AD1A-A2419312194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B06-401D-4210-96FF-611980D6846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027D-12F8-4682-91C0-24D11A10035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9CB-7087-4BBF-9E33-46EDB2DDE17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486400" y="388584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-Gayatr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-Madhubal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3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lass TestFromRoman(unittest.TestCase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setup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rdown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t_knownValues(self)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"""fromRoman should give known result with known input"""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nteger, numeralin knownValues: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sult = roman.fromRoman(numeral)    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elf.assertEqual(integer, result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f testTooManyRepeatedNumerals(self):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"""fromRoman should fail with too many repeated numerals""" 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s in ('MMMM', 'DD', 'CCCC', 'LL', 'XXXX', 'VV', 'IIII'):            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64440" indent="-219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elf.assertRaises(roman.InvalidRomanNumeralError, roman.fromRoman, s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to and from Roman numerals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#Define exception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RomanError(Exception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OutOfRange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NotInteger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class InvalidRomanNumeralError(RomanError): 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#Define digit mapp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omanNumeralMap = (('M',  1000),  ('CM', 900),  ('D',  500),('CD', 400), ('C',  100), ('XC', 90), ('L',  50),('XL', 40), ('X',  10), ('IX', 9), ('V',  5), ('IV', 4), ('I',  1)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def toRoman(n)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integer to Roman numeral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if not (0 &lt; n &lt; 4000):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aise OutOfRangeError, "number out of range (must be 1..3999)"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if int(n) &lt;&gt; n: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aise NotIntegerError, "non-integers can not be converted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sult = ""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for numeral, integer in romanNumeralMap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while n &gt;= integer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sult += numeral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n -= integer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return result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 = 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ex = 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umeral, integer in romanNumeralMap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le s[index:index+len(numeral)] == numeral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 += integ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ex += len(numeral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resul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ose.tools module provides a number of testing aids that you may find useful, including decorators for restricting test execution time and testing for exceptions, and all of the same assertX methods found i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unittest.TestCase (only spelled in pep08 fashion, so assert_equal rather than assertEqual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aises(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*exceptions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Test must raise one of expected exceptions to pass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Example use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@raises(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TypeError, ValueError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 test_raises_type_error():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aise TypeError("This test passes")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assert_equal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Fail if the two objects are unequal as determined by the ‘==’ operator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se.tools.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assert_false</a:t>
            </a:r>
            <a:endParaRPr b="0" lang="en-US" sz="1700" spc="-1" strike="noStrike">
              <a:solidFill>
                <a:srgbClr val="fefac9"/>
              </a:solidFill>
              <a:latin typeface="Constantia"/>
            </a:endParaRPr>
          </a:p>
          <a:p>
            <a:pPr lvl="3" marL="1266480" indent="-226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Fail the test if the expression is true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5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5" descr=""/>
          <p:cNvPicPr/>
          <p:nvPr/>
        </p:nvPicPr>
        <p:blipFill>
          <a:blip r:embed="rId1"/>
          <a:stretch/>
        </p:blipFill>
        <p:spPr>
          <a:xfrm>
            <a:off x="1901880" y="2657520"/>
            <a:ext cx="54990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 box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ad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ox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ss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t test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mance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mental integration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abil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gration test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all/uninstall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al test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Subtitle 4"/>
          <p:cNvSpPr/>
          <p:nvPr/>
        </p:nvSpPr>
        <p:spPr>
          <a:xfrm>
            <a:off x="487692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ver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ur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-to-end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tibility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nity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ress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pha tes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ance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a testing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traight Connector 6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66680" y="1676160"/>
            <a:ext cx="3276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Unit Testing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Unittest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Unittest2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ose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ock Testing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Mock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yMock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vnMock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...</a:t>
            </a:r>
            <a:endParaRPr b="0" lang="en-US" sz="1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uzz Testing Tools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ester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eachFuzzer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...</a:t>
            </a:r>
            <a:endParaRPr b="0" lang="en-US" sz="1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deCoverage Tools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overage</a:t>
            </a:r>
            <a:endParaRPr b="0" lang="en-US" sz="1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7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8" name="Subtitle 4"/>
          <p:cNvSpPr/>
          <p:nvPr/>
        </p:nvSpPr>
        <p:spPr>
          <a:xfrm>
            <a:off x="4800600" y="1676520"/>
            <a:ext cx="3505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ui Test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Pywinauto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Gui a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eb Test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windmi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Selen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tegration Testing Too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Build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bitten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  <a:ea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urce codechecking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Arial"/>
              </a:rPr>
              <a:t>pyl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5"/>
          <p:cNvSpPr/>
          <p:nvPr/>
        </p:nvSpPr>
        <p:spPr>
          <a:xfrm>
            <a:off x="380880" y="144792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un completely by itself, without any human input. Unit testing is about automation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.determine by itself whether the function it is testing has passed or failed, without a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uman interpreting the results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.run in isolation, separate from any other test cases (even if they test the same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unctions). Each test case is an island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oal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solate each part of the program and show that the individual parts are correc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nifi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.A unit test provides a strict, written contract that the piece of code must satisfy. As a result, it affords several benefits. Unit tests find problems early in the development cycle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mitations--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-Testing cannot be expected to catch every error in the program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5"/>
          <p:cNvSpPr/>
          <p:nvPr/>
        </p:nvSpPr>
        <p:spPr>
          <a:xfrm>
            <a:off x="45720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2154240" y="1658880"/>
            <a:ext cx="4835520" cy="4302360"/>
          </a:xfrm>
          <a:prstGeom prst="rect">
            <a:avLst/>
          </a:prstGeom>
          <a:ln w="0">
            <a:noFill/>
          </a:ln>
        </p:spPr>
      </p:pic>
      <p:sp>
        <p:nvSpPr>
          <p:cNvPr id="185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DD can lead to more modularized, flexible, and extensible co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n cod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s to better desig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ter code documen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productiv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od desig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92736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6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quir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man should return the Roman numeral representation for all integers 1 to 3999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Roman should take a valid Roman numeral and return the number that it represent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man should always return a Roman numeral using uppercase letter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Roman should only accept uppercase Roman numerals 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.e. it should fail when given lowercase input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1" name="Straight Connector 4"/>
          <p:cNvSpPr/>
          <p:nvPr/>
        </p:nvSpPr>
        <p:spPr>
          <a:xfrm>
            <a:off x="380880" y="1523880"/>
            <a:ext cx="8458200" cy="18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#roman.py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to and from Roman numerals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#Define exception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RomanError(Exception): pass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OutOfRangeError(RomanError): pass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NotIntegerError(RomanError): pas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class InvalidRomanNumeralError(RomanError): pass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def toRoman(n)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integer to Roman numeral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pass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def fromRoman(s)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"""convert Roman numeral to integer"""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pass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3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37680" cy="1006200"/>
          </a:xfrm>
          <a:prstGeom prst="rect">
            <a:avLst/>
          </a:prstGeom>
          <a:ln w="0">
            <a:noFill/>
          </a:ln>
        </p:spPr>
      </p:pic>
      <p:sp>
        <p:nvSpPr>
          <p:cNvPr id="194" name="Straight Connector 5"/>
          <p:cNvSpPr/>
          <p:nvPr/>
        </p:nvSpPr>
        <p:spPr>
          <a:xfrm>
            <a:off x="380880" y="137160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Unittest: testRoman.py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Unit test for roman.py"""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port roman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port unittest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knownValues = ( (1, 'I'),.,.,.,..,(3999, 'MMMCMXCIX'))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lass TestToRoman(unittest.TestCase)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f testToRomanGood(self):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toRoman should give known result with known input"""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or integer, numeral in knownValues: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ult = roman.toRoman(integer)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elf.assertEqual(numeral, result)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f testNonInteger(self):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"""toRoman should fail with non-integer input"""         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elf.assertRaises(roman.NotIntegerError, roman.toRoman, 0.5)  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7" name="Straight Connector 5"/>
          <p:cNvSpPr/>
          <p:nvPr/>
        </p:nvSpPr>
        <p:spPr>
          <a:xfrm>
            <a:off x="380880" y="1447920"/>
            <a:ext cx="8458200" cy="144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9:38:18Z</dcterms:created>
  <dc:creator>1082769</dc:creator>
  <dc:description/>
  <dc:language>en-US</dc:language>
  <cp:lastModifiedBy>1082769</cp:lastModifiedBy>
  <dcterms:modified xsi:type="dcterms:W3CDTF">2010-09-10T10:41:34Z</dcterms:modified>
  <cp:revision>40</cp:revision>
  <dc:subject/>
  <dc:title>Test Driven Development</dc:title>
</cp:coreProperties>
</file>