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CC5-9D69-4908-8710-5BC4250D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DAD-954E-43F5-BC07-A6F8B64C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61F-45ED-4C32-A8CF-DEFEF54D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3F4-2721-4D1F-A47A-B5F737F0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6EFD-7E6A-480B-9381-1291391B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9C42-B868-4DCB-A105-7C3414C5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B787-EA73-453D-8F42-E500000C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31BA-F9F7-4F0C-B8C6-CAAD9E43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7D45-E2E7-4BC7-AAC5-84865222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1F87-2C96-4894-9A11-D39E5B40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28F0-545F-4469-B2D0-3E432B89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A28-5D6A-4112-BD53-8FD5A241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2500-0AC6-416B-BD45-27DC63CF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B1ED-BD6E-4987-9AF5-E386041B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330B-4B72-400B-B761-FE7BBC60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A57E-671A-4A72-9268-3D80DE9F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C8AC-88AC-489C-9D40-7CAC5B39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2DF-DA80-4F9A-B33A-A6BBBF74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65D-48C2-4246-A242-620F8849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0A30-F8A0-4894-A10E-A0A0EDDE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B22-E48F-44D7-9D0C-43FC9781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EE1-6F30-49AC-8C14-E671FAEE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01D-39EC-432D-9BF7-30A137D1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4E8-2100-4FB1-BB99-C6729F52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0031-F97E-4A05-B48E-2B44202B37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13EF-4623-485D-B11C-C3876A8A4B4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ext Parsing in Pyth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Gayatri Nittal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Madhubala Vasired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gular Expres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ise way for complex  patter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zingly power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de variety of oper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go beyond  simple, think about regular expression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l world proble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ch IP Addresses, email addresses, UR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ch balanced sets of pare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stitute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ken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i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ete duplic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Language proce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 in Pyth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eash the power - built-in re mod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compile patter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perform mat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ch, search, findall, findi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perform opertaions on match 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oup, start, end, sp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substitu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, sub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tacharac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piling patter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.complile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tern for IP Addr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^[0-9]+\.[0-9]+\.[0-9]+\.[0-9]+$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^\d+\.\d+\.\d+\.\d+$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^\d{1,3}\.\d{1,3}\.\d{1,3}\.\d{1,3}$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^([01]?\d\d?|2[0-4]\d|25[0-])\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[01]?\d\d?|2[0-4]\d|25[0-5])\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[01]?\d\d?|2[0-4]\d|25[0-5])\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[01]?\d\d?|2[0-4]\d|25[0-5])$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piling patter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tern for matching pare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\(.*\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\([^)]*\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\([^()]*\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bstitu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form several string substitutions on a given st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ort 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 make_xlat(*args, **kwarg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ict = dict(*args, **kwarg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x = re.compile('|'.join(map(re.escape, adict)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 one_xlate(match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 adict[match.group(0)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 xlate(text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 rx.sub(one_xlate, tex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 x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u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lit and count words in the given t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 = re.compile(r'\W+'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n(p.split('This is a test for split().')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ke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sing and Natural Language Proce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= 'tokenize these words'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ds = re.compile(r'\b\w+\b|\$'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ds.findall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'tokenize', 'these', 'words'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mon Pitfal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ons on fixed strings, single character class, no case sensitive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.sub() and string.replace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.sub() and string.translate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ch vs. se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edy vs. non-gree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S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at and Nested tex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sted tags, Programming language constru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ter to do less than to do mor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xt Pars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hree W’s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iciency and Perf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sing Non flat tex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mm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te tokens and Act on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xer - Generates a stream of toke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ser - Generate a parse tree out of the toke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x and Yac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ammar Vs 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ating 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#---- EBNF-style description of Python ---#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atnumber   ::= pointfloat | exponentflo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intfloat    ::= [intpart] fraction | intpart ".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onentfloat ::= (intpart | pointfloat) expon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part       ::= digit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ction      ::= "." digit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onent      ::= ("e" | "E") ["+" | "-"] digit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         ::= "0"..."9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ammar Vs 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at = r'''(?x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                   # exponentflo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                 # intpart or pointflo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               # pointflo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\d+)?[.]\d+  # optional intpart with fra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|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\d+[.]        # intpart with perio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)               # end pointflo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|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\d+             # intpar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)                 # end intpart or pointflo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[eE][+-]?\d+      # expon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)                   # end exponentflo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|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                   # pointflo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\d+)?[.]\d+      # optional intpart with fra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|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\d+[.]            # intpart with perio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)                   # end pointflo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'''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LY - The Python Lex and Yac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er-level and cleaner grammar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LR(1) pars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nsive input validation, error reporting, and diagnos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moduoles lex.py and yacc.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ing PLY - Lex and Yacc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x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 the [lex] mo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a list or tuple variable 'tokens', the lexer is allowed to prod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tokens - by assigning to a specially named variable ('t_tokenName'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 the lex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lexer = lex.lex(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lexer.input(mytext) # handled by yac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_NAME    = r'[a-zA-Z_][a-zA-Z0-9_]*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 t_NUMBER(t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'\d+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.value = int(t.valu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t ValueErr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nt "Integer value too large", t.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.value =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 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_ignore = " \t"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ac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 the 'yacc' mo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a token map from a lex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a collection of grammar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 the par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acc.yacc(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acc.parse('x=3'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ac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ly named functions having a 'p_' prefi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 p_statement_assign(p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'statement : NAME "=" expression'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s[p[1]] = p[3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 p_statement_expr(p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'statement : expression'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t p[1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ing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humb rule - if you can do, do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ular Expres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x patterns - something beyond simpl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x and Yac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se non flat texts - that follow some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docs.python.org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code.activestate.com/recipes/langs/python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regular-expressions.info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dabeaz.com/ply/ply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ing Regular Expressions by Jeffrey E F. Fried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ython Cookbook by Alex Martelli, Anna Martelli &amp; David Asc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 processing in Python by David Mert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Text Parsing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 programming tas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act or split a sequence of charac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ank You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 &amp; 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is Text Parsing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ple file par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ab separated f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 ex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ract specific information from log f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d and re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sers – syntactic 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L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ract information from cor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 Tagg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xt Parsing Metho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ng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ular Expre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s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ing Fun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ng module in pyth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er, easier to understand and main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can do, DO I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 built-in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d-Re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lit-Jo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swith and Endsw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ind and Repl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, index, rindex, re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: Replace a string in all files in a direc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es = glob.glob(pat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line in fileinput.input(files,inplace=1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no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no = string.find(line, stex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lineno &gt;0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 =line.replace(stext, rtex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.stdout.write(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artswith and endswi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act quoted words from the given 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String = "\"123\""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(myString.startswith("\""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nt "string with double quotes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d if the sentences are interrogative or exclamati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hat an amazing game that was!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o you like this?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ings = ('!', '?'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tence.endswith(ending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Metho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heck alphabets, numerals, character case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 = 'xxxasdf ‘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.isalpha(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09:51:49Z</dcterms:created>
  <dc:creator>1085656</dc:creator>
  <dc:description/>
  <dc:language>en-US</dc:language>
  <cp:lastModifiedBy>1085656</cp:lastModifiedBy>
  <dcterms:modified xsi:type="dcterms:W3CDTF">2010-09-10T10:56:40Z</dcterms:modified>
  <cp:revision>47</cp:revision>
  <dc:subject/>
  <dc:title>Slide 1</dc:title>
</cp:coreProperties>
</file>