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A9A-C41D-4589-9926-59E1D79F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BF2-9FD9-4084-AB56-423DBFD0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FA6-28E2-47D1-B32B-C23B0001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3E1-8B74-4616-B234-D6804E9F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3AAD-1A38-4AE5-A6CB-865889FE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1E52-0DC2-4030-8994-E94D6902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95D8-C7E9-46B3-8E39-1C4A5794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6645-D984-46ED-B72A-F28DCDC7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C702-508A-47A8-8388-E894141B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5119-F7F2-4843-B694-BC06BD80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E0F8-1C6F-4B82-A726-6AEC9082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935-17FC-4002-8B1A-9684EAEE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FA9F-50FA-4097-99DE-CCF12511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0CFE-4083-42EF-818C-FC22BAD2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3B0D-EFF2-4D1E-A532-BBC34FBE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8660-01FD-42E3-93AD-6F05CE8F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3D2A-7D74-497F-8FC8-A29FABA0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B74-C96B-4FFA-A658-98A41358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D35-6FA0-4B0D-8C4A-5C1CA13E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5A1-1B3D-475E-8D06-7E53B72C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383-18EF-4B84-9D12-208BF129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3F6-059A-42DB-8346-BE2F599E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189-1F91-4FB5-B0A2-F18515E1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BD0-C54F-4681-9F54-3FD92433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07DC-B54B-4FC7-83BE-D7611B317D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158E-12B2-4EB5-9501-C797CAE325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ext Parsing in Pyth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Gayatri Nittal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Madhubala Vasired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gular Expres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ise way for complex  patter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zingly power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de variety of oper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go beyond  simple, think about regular expression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l world proble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ch IP Addresses, email addresses, UR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ch balanced sets of pare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stitute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ken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i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ete duplic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Language proce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 in Pyth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eash the power - built-in re mod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compile patter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perform mat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ch, search, findall, findi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perform opertaions on match 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oup, start, end, sp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substitu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, sub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Metacharac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piling patter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.complile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tern for IP Addr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^[0-9]+\.[0-9]+\.[0-9]+\.[0-9]+$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^\d+\.\d+\.\d+\.\d+$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^\d{1,3}\.\d{1,3}\.\d{1,3}\.\d{1,3}$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^([01]?\d\d?|2[0-4]\d|25[0-])\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[01]?\d\d?|2[0-4]\d|25[0-5])\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[01]?\d\d?|2[0-4]\d|25[0-5])\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[01]?\d\d?|2[0-4]\d|25[0-5])$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piling patter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tern for matching pare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\(.*\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\([^)]*\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\([^()]*\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bstitu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form several string substitutions on a given st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ort 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 make_xlat(*args, **kwarg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ict = dict(*args, **kwarg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x = re.compile('|'.join(map(re.escape, adict)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 one_xlate(match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 adict[match.group(0)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 xlate(text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 rx.sub(one_xlate, tex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 x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u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lit and count words in the given t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 = re.compile(r'\W+'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n(p.split('This is a test for split().')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ke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sing and Natural Language Proce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= 'tokenize these words'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ds = re.compile(r'\b\w+\b|\$'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ds.findall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'tokenize', 'these', 'words'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mon Pitfal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ons on fixed strings, single character class, no case sensitive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.sub() and string.replace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.sub() and string.translate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ch vs. se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edy vs. non-gree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S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at and Nested tex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sted tags, Programming language constru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ter to do less than to do mor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xt Pars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hree W’s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iciency and Perf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sing Non flat tex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mm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te tokens and Act on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xer - Generates a stream of toke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ser - Generate a parse tree out of the toke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x and Yac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ammar Vs 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ating 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#---- EBNF-style description of Python ---#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atnumber   ::= pointfloat | exponentflo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intfloat    ::= [intpart] fraction | intpart ".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onentfloat ::= (intpart | pointfloat) expon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part       ::= digit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ction      ::= "." digit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onent      ::= ("e" | "E") ["+" | "-"] digit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         ::= "0"..."9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ammar Vs 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at = r'''(?x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                   # exponentflo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                 # intpart or pointflo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               # pointflo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\d+)?[.]\d+  # optional intpart with fra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|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\d+[.]        # intpart with perio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)               # end pointflo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|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\d+             # intpar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)                 # end intpart or pointflo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[eE][+-]?\d+      # expon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)                   # end exponentflo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|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                   # pointflo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\d+)?[.]\d+      # optional intpart with fra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|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\d+[.]            # intpart with perio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)                   # end pointflo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'''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LY - The Python Lex and Yac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er-level and cleaner grammar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LR(1) pars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nsive input validation, error reporting, and diagnos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moduoles lex.py and yacc.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ing PLY - Lex and Yacc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x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 the [lex] mo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a list or tuple variable 'tokens', the lexer is allowed to prod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tokens - by assigning to a specially named variable ('t_tokenName'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 the lex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lexer = lex.lex(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lexer.input(mytext) # handled by yac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_NAME    = r'[a-zA-Z_][a-zA-Z0-9_]*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 t_NUMBER(t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'\d+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.value = int(t.valu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t ValueErr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nt "Integer value too large", t.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.value =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 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_ignore = " \t"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ac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 the 'yacc' mo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a token map from a lex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a collection of grammar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 the par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acc.yacc(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acc.parse('x=3'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ac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ly named functions having a 'p_' prefi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 p_statement_assign(p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'statement : NAME "=" expression'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s[p[1]] = p[3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 p_statement_expr(p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'statement : expression'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t p[1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ing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humb rule - if you can do, do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ular Expres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x patterns - something beyond simpl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x and Yac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se non flat texts - that follow some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docs.python.org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code.activestate.com/recipes/langs/python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regular-expressions.info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dabeaz.com/ply/ply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ing Regular Expressions by Jeffrey E F. Fried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ython Cookbook by Alex Martelli, Anna Martelli &amp; David Asc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 processing in Python by David Mert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Text Parsing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 programming tas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act or split a sequence of charac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ank You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 &amp; 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is Text Parsing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ple file par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ab separated f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 ex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ract specific information from log f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d and re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sers – syntactic 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L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ract information from cor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 Tagg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xt Parsing Metho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ng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ular Expre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s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ing Fun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ng module in pyth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er, easier to understand and main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can do, DO I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 built-in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d-Re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lit-Jo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swith and Endsw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ind and Repl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, index, rindex, re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: Replace a string in all files in a direc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es = glob.glob(pat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line in fileinput.input(files,inplace=1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no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no = string.find(line, stex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lineno &gt;0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 =line.replace(stext, rtex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.stdout.write(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artswith and endswi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act quoted words from the given 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String = "\"123\""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(myString.startswith("\""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nt "string with double quotes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d if the sentences are interrogative or exclamati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hat an amazing game that was!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o you like this?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ings = ('!', '?'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tence.endswith(ending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Metho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heck alphabets, numerals, character case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 = 'xxxasdf ‘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.isalpha(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09:51:49Z</dcterms:created>
  <dc:creator>1085656</dc:creator>
  <dc:description/>
  <dc:language>en-US</dc:language>
  <cp:lastModifiedBy>1085656</cp:lastModifiedBy>
  <dcterms:modified xsi:type="dcterms:W3CDTF">2010-09-10T10:56:40Z</dcterms:modified>
  <cp:revision>47</cp:revision>
  <dc:subject/>
  <dc:title>Slide 1</dc:title>
</cp:coreProperties>
</file>