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200" spc="-1" strike="noStrike">
                <a:solidFill>
                  <a:srgbClr val="ffffff"/>
                </a:solidFill>
                <a:latin typeface="Helvetica Neue Light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0:45 discussion on open SI issues for 2011: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more detail on how we are currently structured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hat is a SI project and how to select?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frica office!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  <a:p>
            <a:pPr lvl="1">
              <a:buClr>
                <a:srgbClr val="ffffff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  <a:p>
            <a:pPr lvl="2">
              <a:buClr>
                <a:srgbClr val="ffffff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  <a:p>
            <a:pPr lvl="3">
              <a:buClr>
                <a:srgbClr val="ffffff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  <a:p>
            <a:pPr lvl="4">
              <a:buClr>
                <a:srgbClr val="ffffff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</p:txBody>
      </p:sp>
      <p:sp>
        <p:nvSpPr>
          <p:cNvPr id="1" name="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7" name="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6" name="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5" name="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0" name="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9" name="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2" name="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" name="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9" name="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0" name="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17" name="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Helvetica Neue Light"/>
              </a:rPr>
              <a:t>Python In The Wild - Enabling voices of children</a:t>
            </a:r>
            <a:endParaRPr b="0" lang="en-US" sz="4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Jeff Wishnie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Diptanu Choudhury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ThoughtWorks Inc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Helvetica Neue Light"/>
              </a:rPr>
              <a:t>PostGres, PostGIS and GeoDjango</a:t>
            </a:r>
            <a:endParaRPr b="0" lang="en-US" sz="4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PostGres has the datatype Polygon which PostGIS extends to form other database types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PostGIS brings a whole lot of queries to developers making apps with geo-location support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Django models understands the datatypes of PostGIS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Helvetica Neue Light"/>
              </a:rPr>
              <a:t>Version Control and Continuos Integration</a:t>
            </a:r>
            <a:endParaRPr b="0" lang="en-US" sz="4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Buildbot is very extensible in terms of setting up the build agents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Buildbot has listeners to post-commit hooks that GitHub triggers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Git is an exceptional SCM for distributed development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We started with shell scripts but then moved to Fabric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Helvetica Neue Light"/>
              </a:rPr>
              <a:t>Lessons learned in production environment</a:t>
            </a:r>
            <a:endParaRPr b="0" lang="en-US" sz="4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Automate as much as possible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The scalability of the application has to be kept in mind right from the beginning.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The app is packaged with the required dependencies, easier it becomes for deployment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Helvetica Neue Light"/>
              </a:rPr>
              <a:t>i18n</a:t>
            </a:r>
            <a:endParaRPr b="0" lang="en-US" sz="4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Django has a good scheme for internationalization.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Messages has to be compiled before the app is deployed.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We needed to add translations for questions and answers in the runtime.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Created the Internationalization app which lets users define codes and their associated translations in RapidSMS.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" descr=""/>
          <p:cNvPicPr/>
          <p:nvPr/>
        </p:nvPicPr>
        <p:blipFill>
          <a:blip r:embed="rId1"/>
          <a:srcRect l="0" t="19912" r="0" b="12044"/>
          <a:stretch/>
        </p:blipFill>
        <p:spPr>
          <a:xfrm>
            <a:off x="-39600" y="2400480"/>
            <a:ext cx="13063320" cy="666720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69720" y="-406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Questions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Helvetica Neue Light"/>
              </a:rPr>
              <a:t>Why SMS in International Development?</a:t>
            </a:r>
            <a:endParaRPr b="0" lang="en-US" sz="4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82400" y="2323800"/>
            <a:ext cx="5676840" cy="1638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Mobile networks are ubiquitous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0" y="0"/>
            <a:ext cx="6832440" cy="6248520"/>
            <a:chOff x="0" y="0"/>
            <a:chExt cx="6832440" cy="6248520"/>
          </a:xfrm>
        </p:grpSpPr>
        <p:pic>
          <p:nvPicPr>
            <p:cNvPr id="7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32440" cy="624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832440" cy="624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32440" cy="624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8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6832440" cy="624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9" name=""/>
          <p:cNvSpPr/>
          <p:nvPr/>
        </p:nvSpPr>
        <p:spPr>
          <a:xfrm>
            <a:off x="482760" y="3340080"/>
            <a:ext cx="567684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Mobile phones are common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But they are ‘feature’ phones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SMS means ubiquitous: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  <a:p>
            <a:pPr marL="266760" indent="-266760">
              <a:lnSpc>
                <a:spcPct val="50000"/>
              </a:lnSpc>
              <a:spcBef>
                <a:spcPts val="2401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data collection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  <a:p>
            <a:pPr marL="266760" indent="-266760">
              <a:lnSpc>
                <a:spcPct val="50000"/>
              </a:lnSpc>
              <a:spcBef>
                <a:spcPts val="2401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realtime analysis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  <a:p>
            <a:pPr marL="266760" indent="-266760">
              <a:lnSpc>
                <a:spcPct val="50000"/>
              </a:lnSpc>
              <a:spcBef>
                <a:spcPts val="2401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realtime feedback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  <a:p>
            <a:pPr marL="266760" indent="-266760">
              <a:lnSpc>
                <a:spcPct val="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UNICEF Malawi: Malnutrition Management 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MVP/Columbia: ChildCount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UNICEF Nigeria: Bednet distribution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Tostan Senegal: Community organization &amp; Literacy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Toyola/E+Co: Cookstove Registration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Helvetica Neue Light"/>
              </a:rPr>
              <a:t>RapidSMS/PyGSM: Python for SMS Applications</a:t>
            </a:r>
            <a:endParaRPr b="0" lang="en-US" sz="4200" spc="-1" strike="noStrike">
              <a:solidFill>
                <a:srgbClr val="ffffff"/>
              </a:solidFill>
              <a:latin typeface="Helvetica Neue Light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1"/>
          <a:stretch/>
        </p:blipFill>
        <p:spPr>
          <a:xfrm>
            <a:off x="825480" y="8966160"/>
            <a:ext cx="3098880" cy="58428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2"/>
          <a:stretch/>
        </p:blipFill>
        <p:spPr>
          <a:xfrm>
            <a:off x="8763120" y="2374920"/>
            <a:ext cx="3174840" cy="74916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3"/>
          <a:stretch/>
        </p:blipFill>
        <p:spPr>
          <a:xfrm>
            <a:off x="9372600" y="5557680"/>
            <a:ext cx="2730600" cy="1122480"/>
          </a:xfrm>
          <a:prstGeom prst="rect">
            <a:avLst/>
          </a:prstGeom>
          <a:ln w="0">
            <a:noFill/>
          </a:ln>
        </p:spPr>
      </p:pic>
      <p:grpSp>
        <p:nvGrpSpPr>
          <p:cNvPr id="785" name=""/>
          <p:cNvGrpSpPr/>
          <p:nvPr/>
        </p:nvGrpSpPr>
        <p:grpSpPr>
          <a:xfrm>
            <a:off x="101520" y="177840"/>
            <a:ext cx="10503000" cy="7962840"/>
            <a:chOff x="101520" y="177840"/>
            <a:chExt cx="10503000" cy="7962840"/>
          </a:xfrm>
        </p:grpSpPr>
        <p:sp>
          <p:nvSpPr>
            <p:cNvPr id="786" name=""/>
            <p:cNvSpPr/>
            <p:nvPr/>
          </p:nvSpPr>
          <p:spPr>
            <a:xfrm>
              <a:off x="7061040" y="7213680"/>
              <a:ext cx="3543480" cy="927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pic>
          <p:nvPicPr>
            <p:cNvPr id="787" name="" descr=""/>
            <p:cNvPicPr/>
            <p:nvPr/>
          </p:nvPicPr>
          <p:blipFill>
            <a:blip r:embed="rId4"/>
            <a:stretch/>
          </p:blipFill>
          <p:spPr>
            <a:xfrm>
              <a:off x="101520" y="177840"/>
              <a:ext cx="3301920" cy="58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8" name=""/>
          <p:cNvGrpSpPr/>
          <p:nvPr/>
        </p:nvGrpSpPr>
        <p:grpSpPr>
          <a:xfrm>
            <a:off x="76320" y="85680"/>
            <a:ext cx="11099520" cy="4664160"/>
            <a:chOff x="76320" y="85680"/>
            <a:chExt cx="11099520" cy="4664160"/>
          </a:xfrm>
        </p:grpSpPr>
        <p:sp>
          <p:nvSpPr>
            <p:cNvPr id="789" name=""/>
            <p:cNvSpPr/>
            <p:nvPr/>
          </p:nvSpPr>
          <p:spPr>
            <a:xfrm>
              <a:off x="7442280" y="3784680"/>
              <a:ext cx="3733560" cy="965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pic>
          <p:nvPicPr>
            <p:cNvPr id="790" name="" descr=""/>
            <p:cNvPicPr/>
            <p:nvPr/>
          </p:nvPicPr>
          <p:blipFill>
            <a:blip r:embed="rId5"/>
            <a:stretch/>
          </p:blipFill>
          <p:spPr>
            <a:xfrm>
              <a:off x="76320" y="85680"/>
              <a:ext cx="3590640" cy="7826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Helvetica Neue Light"/>
              </a:rPr>
              <a:t>Iraq Children's’ Happiness Poll: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Helvetica Neue Light"/>
              </a:rPr>
              <a:t>The Problem</a:t>
            </a:r>
            <a:endParaRPr b="0" lang="en-US" sz="4200" spc="-1" strike="noStrike">
              <a:solidFill>
                <a:srgbClr val="ffffff"/>
              </a:solidFill>
              <a:latin typeface="Helvetica Neue Ligh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71680" y="2323800"/>
            <a:ext cx="65023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lnSpc>
                <a:spcPct val="100000"/>
              </a:lnSpc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UNICEF’s mission: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“…advocate for the protection of children's rights, to help meet their basic needs and to expand their opportunities to reach their full potential.”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3600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UNICEF workers are locked in the ‘International Zone’ 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3600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50% of Iraqis are 18 and under (~15 million people)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3600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&gt;1 mobile phone per Iraqi household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3600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Use mobiles to hear the ‘Voice of the Children’: SMS/IVR/Visualization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7402680" y="2457360"/>
            <a:ext cx="4725720" cy="332748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2"/>
          <a:stretch/>
        </p:blipFill>
        <p:spPr>
          <a:xfrm>
            <a:off x="7404120" y="6130800"/>
            <a:ext cx="4762440" cy="330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Helvetica Neue Light"/>
              </a:rPr>
              <a:t>System Diagram</a:t>
            </a:r>
            <a:endParaRPr b="0" lang="en-US" sz="4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</p:txBody>
      </p:sp>
      <p:sp>
        <p:nvSpPr>
          <p:cNvPr id="797" name=""/>
          <p:cNvSpPr/>
          <p:nvPr/>
        </p:nvSpPr>
        <p:spPr>
          <a:xfrm>
            <a:off x="635040" y="2438280"/>
            <a:ext cx="4813200" cy="308628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Django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8" name=""/>
          <p:cNvSpPr/>
          <p:nvPr/>
        </p:nvSpPr>
        <p:spPr>
          <a:xfrm>
            <a:off x="2819520" y="2616120"/>
            <a:ext cx="2527200" cy="127008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RapidSMS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9" name=""/>
          <p:cNvSpPr/>
          <p:nvPr/>
        </p:nvSpPr>
        <p:spPr>
          <a:xfrm>
            <a:off x="2819520" y="4140360"/>
            <a:ext cx="2527200" cy="12697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Visualization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0" name=""/>
          <p:cNvSpPr/>
          <p:nvPr/>
        </p:nvSpPr>
        <p:spPr>
          <a:xfrm>
            <a:off x="9144000" y="2476440"/>
            <a:ext cx="2768760" cy="127008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Kannel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1" name=""/>
          <p:cNvSpPr/>
          <p:nvPr/>
        </p:nvSpPr>
        <p:spPr>
          <a:xfrm>
            <a:off x="5867280" y="5473800"/>
            <a:ext cx="2768760" cy="127008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Geo Server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2" name=""/>
          <p:cNvSpPr/>
          <p:nvPr/>
        </p:nvSpPr>
        <p:spPr>
          <a:xfrm>
            <a:off x="5816520" y="7137360"/>
            <a:ext cx="2870280" cy="127008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IVR System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3" name=""/>
          <p:cNvSpPr/>
          <p:nvPr/>
        </p:nvSpPr>
        <p:spPr>
          <a:xfrm>
            <a:off x="5715000" y="2336760"/>
            <a:ext cx="2870280" cy="182880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RapidSMS Backends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4" name=""/>
          <p:cNvSpPr/>
          <p:nvPr/>
        </p:nvSpPr>
        <p:spPr>
          <a:xfrm>
            <a:off x="9194760" y="4241880"/>
            <a:ext cx="2768760" cy="127008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Py GSM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5" name=""/>
          <p:cNvSpPr/>
          <p:nvPr/>
        </p:nvSpPr>
        <p:spPr>
          <a:xfrm>
            <a:off x="1320840" y="6388200"/>
            <a:ext cx="1854000" cy="127008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PostGIS</a:t>
            </a:r>
            <a:endParaRPr b="0" lang="en-US" sz="3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6" name=""/>
          <p:cNvSpPr/>
          <p:nvPr/>
        </p:nvSpPr>
        <p:spPr>
          <a:xfrm>
            <a:off x="787320" y="2692440"/>
            <a:ext cx="1765440" cy="82548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GeoDjango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2234880" y="5486400"/>
            <a:ext cx="12600" cy="9777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8" name=""/>
          <p:cNvSpPr/>
          <p:nvPr/>
        </p:nvSpPr>
        <p:spPr>
          <a:xfrm>
            <a:off x="3886200" y="5232240"/>
            <a:ext cx="1270080" cy="1270080"/>
          </a:xfrm>
          <a:prstGeom prst="line">
            <a:avLst/>
          </a:prstGeom>
          <a:ln w="25560">
            <a:solidFill>
              <a:srgbClr val="000000">
                <a:alpha val="0"/>
              </a:srgbClr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9" name=""/>
          <p:cNvSpPr/>
          <p:nvPr/>
        </p:nvSpPr>
        <p:spPr>
          <a:xfrm>
            <a:off x="5867280" y="4241880"/>
            <a:ext cx="1270080" cy="1270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0" name=""/>
          <p:cNvSpPr/>
          <p:nvPr/>
        </p:nvSpPr>
        <p:spPr>
          <a:xfrm>
            <a:off x="5448240" y="4991040"/>
            <a:ext cx="432000" cy="4953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1" name=""/>
          <p:cNvSpPr/>
          <p:nvPr/>
        </p:nvSpPr>
        <p:spPr>
          <a:xfrm>
            <a:off x="8585280" y="3149640"/>
            <a:ext cx="596880" cy="19051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5397480" y="3288960"/>
            <a:ext cx="355680" cy="111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3" name=""/>
          <p:cNvSpPr/>
          <p:nvPr/>
        </p:nvSpPr>
        <p:spPr>
          <a:xfrm>
            <a:off x="8496360" y="3111480"/>
            <a:ext cx="66024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Helvetica Neue Light"/>
              </a:rPr>
              <a:t>The Technology Stack</a:t>
            </a:r>
            <a:endParaRPr b="0" lang="en-US" sz="4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Django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RapidSMS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GeoServer, OpenLayers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PostGIS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VirtualEnv and Buildout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BuildBot, Git and Github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i18n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Helvetica Neue Light"/>
              </a:rPr>
              <a:t>Django</a:t>
            </a:r>
            <a:endParaRPr b="0" lang="en-US" sz="4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The De-Facto web framework in Python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Awesome documentation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Supports modular architecture with apps.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Helvetica Neue Light"/>
              </a:rPr>
              <a:t>RapidSMS</a:t>
            </a:r>
            <a:endParaRPr b="0" lang="en-US" sz="4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Supports a lot of backends including HTTP, Kannel etc.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Integrates with Django very conveniently for administrative and reporting tasks.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Battle tested in the field at a lot of developing countries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Helvetica Neue Light"/>
              </a:rPr>
              <a:t>Maps and User Interface</a:t>
            </a:r>
            <a:endParaRPr b="0" lang="en-US" sz="4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Openlayers is a very comprehensive javascript library for showing maps on web pages.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OpenLayers has support for KML files too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  <a:p>
            <a:pPr marL="266760" indent="-266760">
              <a:lnSpc>
                <a:spcPct val="100000"/>
              </a:lnSpc>
              <a:spcBef>
                <a:spcPts val="4799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"/>
              </a:rPr>
              <a:t>JQuery UI facilitated the visualization along with the maps</a:t>
            </a:r>
            <a:endParaRPr b="0" lang="en-US" sz="2600" spc="-1" strike="noStrike">
              <a:solidFill>
                <a:srgbClr val="ffffff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